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06A-512E-44B0-A957-BEC4B66C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881-C4C8-4E35-8C9A-B08AE6C1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E75-5DC0-4A32-9AB6-A5BBA431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4E0-6F28-4437-8EC8-CD04495C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E1258-B298-4E67-A103-D27D1AF5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E76AA-0ECD-4A3F-B274-E82787F2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E6EC4-CF98-4E8A-8B01-5F5264E0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EBF60-E8CD-49AC-96DA-2288C7B6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F3858-2E37-4E7E-8A54-6794F4ED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B53D8-0887-4B6A-BD1B-2C28758F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D498F-7ABF-46BC-8A0F-DF249DF6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6E2-3FF1-4300-803F-3EFF1B99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15CFD-1283-4590-B4E0-CBC97444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C3285-A16F-450F-A9E1-7AC1041C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DDF66-0F91-446F-B387-80D65081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3D22A-12CC-4EC1-B5F5-745516BD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9F713-71BF-402F-A118-37DB7A3E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2C5-D890-4EAB-96EB-368509B5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15C-3908-4468-AF28-FC8E7CE6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B0D-B09E-4F5C-9C24-A5676276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B34-EC3A-4BC7-A2E6-8CAD1503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C2A-0430-4327-B292-FBFA700E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1CB-4D76-48FE-816B-1CD7B94A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6B3-F0E3-4A94-8649-A2DD13B2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F192-CEF3-466C-B6F8-66F1B2F9A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A39D-926C-4D68-83BA-BCDD6AE4E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Long, O Lord?”</a:t>
            </a:r>
            <a:br>
              <a:rPr sz="4400"/>
            </a:br>
            <a:br>
              <a:rPr sz="4400"/>
            </a:b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he Epistle to the Hebrew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3, Lesson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67-6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5D896-FFB4-4AE1-A38C-858E2FD67806}" type="slidenum">
              <a:t>1</a:t>
            </a:fld>
          </a:p>
        </p:txBody>
      </p:sp>
    </p:spTree>
  </p:cSld>
  <p:transition spd="slow" advTm="1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Arguments in Hebrews 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is superior to proph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:1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is superior to ang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:4 - 2: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is superior to M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:1 - 4: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’s priesthood is superior to Aaron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:14 – 10: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102-4DAA-4495-A3D7-C6897E90D87E}" type="slidenum">
              <a:t>2</a:t>
            </a:fld>
          </a:p>
        </p:txBody>
      </p:sp>
    </p:spTree>
  </p:cSld>
  <p:transition spd="slow" advTm="25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ven Proofs of the Superiority of Christ’s Priesthoo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riest after a higher order than Le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riest made with an o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unchangeable priest, and everla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nless priest, unlike those of the old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Priest of a better coven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Priest of a better taberna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riest with a better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D52-00B3-4F0F-B835-C7F4C09BBB03}" type="slidenum">
              <a:t>3</a:t>
            </a:fld>
          </a:p>
        </p:txBody>
      </p:sp>
    </p:spTree>
  </p:cSld>
  <p:transition advTm="3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1:28:05Z</dcterms:created>
  <dc:creator>Tab L. Vines</dc:creator>
  <dc:description/>
  <dc:language>en-US</dc:language>
  <cp:lastModifiedBy>Frank D Vines</cp:lastModifiedBy>
  <dcterms:modified xsi:type="dcterms:W3CDTF">2007-08-22T22:59:45Z</dcterms:modified>
  <cp:revision>20</cp:revision>
  <dc:subject/>
  <dc:title>Hebrews </dc:title>
</cp:coreProperties>
</file>